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E75C-7C28-4873-944F-C9AA7D96EF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C6F8-1FEC-4340-A3B7-DF34B093FD85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AA9-9794-4994-8632-21BDAB0F8A73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68ED-7CEF-44E5-B338-FB8F6DDFE69B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ubtest provide 3 questions from single dimension eg. Number,  Measurement et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or general adaptive subtest consist of 5 questions 1 from each dimension number,  chance and data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5031-4982-4654-868D-9834EAD82265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FAD-3B60-42F5-B422-46F56C0B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A8E-A056-4C6C-BC55-2C3470F7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C5F-150C-408F-A26E-D72628E8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C77-93D3-4301-AB0F-E3CE71C7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EC7B-E860-4BEC-8CB9-B8912F19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968B-4273-4AA5-8DC2-68E4ABC7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D90C-A093-4F89-98AA-E01E952B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6A22-7773-49B3-8E2D-C9324451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612F-2DFC-459B-8FC4-A9281CD7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15EC-7FC8-4CAD-89FD-BC624683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35BA-2112-4054-BD20-49E1B4B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07DC-D5F9-4E3B-82E8-F80D7D95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26D4-127B-4A16-9C8C-F35DB99E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5B01-B749-49BD-B738-2EFF077A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497D-715E-4885-933C-EB5D498C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0DDD-CE38-49EA-9B8E-3AFB3C8E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5F69-063C-49E7-96F9-130B612B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57714-FE5B-48FC-8A70-49D61E5A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043E-0B1B-46E9-B545-07227608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BAD6-E602-423E-A028-1FC046E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441D-185B-4C9B-B43C-146D03AB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B93A-CEFB-459A-ADCE-A71FFE96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D8A4-60A2-4992-8895-09326D1F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27E2-6865-412B-9739-47707F0B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AB18-22AE-47EF-963C-AB2E354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9FC2-5679-4FC6-AFBD-0D2E94B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24B7-A0C5-4A19-8814-908473D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91A97-535E-421B-8D0B-793DCF3D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132B-4F16-4DE2-93ED-58BCCB8A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45A4-6586-4A78-9AF3-1CD363FF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EB65-A3C2-4E12-ABD9-BF8EB135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73B7-9C82-4FF5-8BD2-8A6C536B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AC448-495B-4839-A2DB-864FC468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20D-BB1F-4817-B555-F0C3ED9A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52B70-83FF-4253-9A68-64923E7D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C6F36-C859-4893-B3DE-1D7230A1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7960-405E-425E-90D9-A7546FB6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3F2D6-7372-4E15-90F0-8EE6154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8421-0622-4DD2-B8B8-6C9A918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0517-D9FB-4509-8A79-E802D5A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58F59-ACB2-4B08-90D6-2DF8CA36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3024-6AEE-49C8-A633-CF346668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799B-3C5E-4686-AF19-44886DCB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7BBBD-3DB8-4816-94EF-BA32527C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38F-D45C-4ADE-A82A-7A75D5AB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01F6-EA40-461A-8C46-FBDBFE58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C240-F345-4AD6-B8A8-46DA8320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AED80-5B85-4072-8653-B705CCF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6E1B7-71AC-4663-BEBB-8ADBDE7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43266-D24D-4B74-8A44-993E11EA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9A546-1CB4-4AA9-B43B-873F91E6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10167-4C8E-4AE3-8CC9-659B894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E312D-4AE5-4C68-97F9-CE2F467E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2BFA-A2E1-41F5-BC7B-1680E79D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B438-7E33-47B2-82C4-0590D3A5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FFC-F499-4A25-ADD9-A055DBF6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5BDE6-5A19-48DF-BEC5-9B3EB10D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7F1D-0FDA-445B-8487-A23DECF2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E856-6132-48A5-A401-BAAAD1D5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34454-D760-42BC-95BC-736A85E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16DB-71EC-4331-AFFF-D57A0D47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5FA3A-8764-4E3C-8C3C-3EE70929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FB830-1FE7-4886-986C-9CF640CD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F6F88-8E00-45C3-BE9C-9E6151CD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09382-F32E-4CAF-A5F5-0F97C21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C54ED-F689-4703-80DC-8A3E8716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07D-687A-4CF2-9EF3-6356043D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66A67-4479-4163-810B-6CC7A704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062C-CFB4-4408-974C-1C1F2D32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1C94E-9832-4B29-A993-0B076F63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13D0-1D55-4C26-A737-C753B782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A0EC-1EE8-406A-9B5E-914BA783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F4EC-6BB4-4727-B315-D4BCC8C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17449-CF49-4EA0-8B30-06123B03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34F92-D8CF-44ED-A407-C55C225D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7E56-2FCA-40FF-82D8-CFA66B56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32AE6-E713-469E-9DBD-A812139E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51A-703C-4205-AED1-EB3319E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8E56B-C2FE-4DC1-8BA5-8CA7A712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B1A63-77D3-4A82-9B64-13A8DE3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4AE10-8F8C-4960-B323-06611F05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34C3-E930-4302-906D-08ECD5BD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E621-2B8E-40B8-8093-4B5EAED6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F18-4142-4029-B963-ADB8AEC3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BDD9-2D7B-4588-97B3-69E5C7536C18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57A5-C7A7-4581-B114-C51491E86EDE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C7D6-34A0-42DD-9943-8C393952FF18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C18C-847B-4F4B-87D1-BE7AB153C0AE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CED8-1E35-4294-BD71-A65B2B87B1D8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B5B0-B21A-470A-B3FE-765330C22155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9C7E-2AC3-4C67-895F-85B111DF6398}" type="slidenum">
              <a:rPr b="0" lang="en-A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caa.vic.edu.au/prep10/vels/index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03360" y="665280"/>
            <a:ext cx="8339040" cy="21747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1000080" y="221436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What is On Demand Testing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How does it work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What information can you get  from the Adaptive and Linear Test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orbel"/>
              </a:rPr>
              <a:t>How can you use  the information to create a class profil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600" spc="-1" strike="noStrike">
                <a:solidFill>
                  <a:srgbClr val="ffff00"/>
                </a:solidFill>
                <a:latin typeface="Corbel"/>
              </a:rPr>
              <a:t>How can you use the information to focus your teaching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80000"/>
              </a:lnSpc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Student Percentage Correc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5000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Class Raw Score by Question Standard Lev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40719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Class Skills Repor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785880" y="1195560"/>
            <a:ext cx="392904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Student Raw Score by Question Standard Lev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5006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Student Skills Repor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000080" y="1227240"/>
            <a:ext cx="350064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ACTIVITY 2: </a:t>
            </a:r>
            <a:r>
              <a:rPr b="0" lang="en-AU" sz="1800" spc="-1" strike="noStrike">
                <a:solidFill>
                  <a:srgbClr val="c1eeff"/>
                </a:solidFill>
                <a:latin typeface="Consolas"/>
              </a:rPr>
              <a:t>Data for focused teaching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3038400" cy="3929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3286080" y="1285920"/>
            <a:ext cx="2735280" cy="3929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6143760" y="1285920"/>
            <a:ext cx="2763720" cy="39290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6"/>
          <p:cNvSpPr/>
          <p:nvPr/>
        </p:nvSpPr>
        <p:spPr>
          <a:xfrm>
            <a:off x="857160" y="5429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ddition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Place Value   Decimals   Fractions   Money   Multiplication Rounding and Estimating 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Targeted Teach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39290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What is On Demand Testing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On Demand Testing is an online resource for teachers to use when, where and how they choose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Tests are designed to link to curriculum and </a:t>
            </a:r>
            <a:r>
              <a:rPr b="0" lang="en-AU" sz="26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standards</a:t>
            </a: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Both general ability tests and topic-specific assessments are provided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It is a time-saving tool that can be administered to a single student and/or a whole clas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rbel"/>
              </a:rPr>
              <a:t>The On Demand testing program utilises the VCAA Assessment Online software, a decentralised computer-based system where schools download tests from the VCAA central server and distribute them via the school's Local Area Network (LAN)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Benefi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A bank of tests that relate to the Victorian Essential Learning Standards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Once completed, tests are computer marked and a range of reports are available for teachers to immediately view and analyse the results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On Demand tests can be used for: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pre-testing students prior to beginning a topic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applying the same test to post-test a topic of work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testing new intake students or a late arrival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identifying individual student's strengths and weaknesses 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confirming teacher judgments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assisting in forward planning of teaching programs</a:t>
            </a:r>
            <a:r>
              <a:rPr b="1" lang="en-AU" sz="2300" spc="-1" strike="noStrike">
                <a:solidFill>
                  <a:srgbClr val="ffffff"/>
                </a:solidFill>
                <a:latin typeface="Corbel"/>
              </a:rPr>
              <a:t>.</a:t>
            </a:r>
            <a:r>
              <a:rPr b="0" lang="en-AU" sz="23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2880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Adaptive Tes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928800" y="928800"/>
            <a:ext cx="7643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Questions to students vary according to  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Depending on responses the  system automatically provides easier or more difficult ques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Questions consist of multiple choice (most), answering with keyboard, using mouse to ‘drag and drop’ , on screen calculator  and locating  hot s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General Test 60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Single Dimension  Test 30 questions : Number, Space,  MC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How the adaptive test work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Content Placeholder 3" descr=""/>
          <p:cNvPicPr/>
          <p:nvPr/>
        </p:nvPicPr>
        <p:blipFill>
          <a:blip r:embed="rId1"/>
          <a:stretch/>
        </p:blipFill>
        <p:spPr>
          <a:xfrm>
            <a:off x="438120" y="2500200"/>
            <a:ext cx="8477280" cy="40849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1071720" y="142884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0 subtests 3qs in ea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2+ : 1 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:    1 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4643280" y="1428840"/>
            <a:ext cx="42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2 subtests 5qs in each </a:t>
            </a:r>
            <a:r>
              <a:rPr b="0" lang="en-AU" sz="1100" spc="-1" strike="noStrike">
                <a:solidFill>
                  <a:srgbClr val="ffffff"/>
                </a:solidFill>
                <a:latin typeface="Arial"/>
              </a:rPr>
              <a:t>(sp m  cd st nu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3 +: 1 hig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2 - : 1 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c1eeff"/>
                </a:solidFill>
                <a:latin typeface="Consolas"/>
              </a:rPr>
              <a:t>What’s in it for the teacher: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TextBox 4"/>
          <p:cNvSpPr/>
          <p:nvPr/>
        </p:nvSpPr>
        <p:spPr>
          <a:xfrm>
            <a:off x="4786200" y="1571760"/>
            <a:ext cx="37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rbel"/>
              </a:rPr>
              <a:t>The Class Standard Score Report is the only option for the Adaptive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rbel"/>
              </a:rPr>
              <a:t>Standard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orbel"/>
              </a:rPr>
              <a:t>How many questions at each level and how many cor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85776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Activity 1: Class Profi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4649760" y="2571840"/>
            <a:ext cx="4137120" cy="28018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"/>
          <p:cNvPicPr/>
          <p:nvPr/>
        </p:nvPicPr>
        <p:blipFill>
          <a:blip r:embed="rId2"/>
          <a:stretch/>
        </p:blipFill>
        <p:spPr>
          <a:xfrm>
            <a:off x="571680" y="1276200"/>
            <a:ext cx="38574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Class Profi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714240" y="1189080"/>
            <a:ext cx="811224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1eeff"/>
                </a:solidFill>
                <a:latin typeface="Consolas"/>
              </a:rPr>
              <a:t>Linear/Progressiv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000080" y="1214280"/>
            <a:ext cx="7143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A set of questions that use a variety of  question typ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All students receive the same questions in the same order during the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Tests are aimed at Vels level eg. 2.0 – 2.5 0r 3.5 – 4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Students responses are saved and scored by th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orbel"/>
              </a:rPr>
              <a:t>A range of different re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571680" y="4500720"/>
            <a:ext cx="840888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0:58:04Z</dcterms:created>
  <dc:creator>Warwick Knuckey</dc:creator>
  <dc:description/>
  <dc:language>en-US</dc:language>
  <cp:lastModifiedBy>Warwick Knuckey</cp:lastModifiedBy>
  <dcterms:modified xsi:type="dcterms:W3CDTF">2010-05-20T05:01:11Z</dcterms:modified>
  <cp:revision>54</cp:revision>
  <dc:subject/>
  <dc:title>On Demand Testing</dc:title>
</cp:coreProperties>
</file>